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F92-AD87-454D-AFB4-4F936C11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CEC-9034-447A-8BD5-82AA7448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28C-B32B-41A7-A7BB-8595598D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B73-4526-4E4A-AD2C-523CA7D0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905-E515-405A-9B44-DB3BF9A2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54FB-277D-43C6-B95A-0FAC7FF0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8BD8-34D1-4AB6-826F-A7EE861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3DBE-6B0C-428A-8C41-7E842BA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E04-AF7E-4872-8954-EBDF212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50E9-AA55-472D-8446-BA8B52AF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459-C115-4568-B7A4-381BCF8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181-14E2-4BF1-AD36-F1116271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3642-EE05-45E0-9EBF-86C2035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CE1A-D4E2-4FA1-91D3-39E5AB1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A398-B9B9-4FF2-B62B-25F8F0DE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364F-A42C-4DE9-8A25-24144341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FAA-6E96-4CE3-98C7-E72A2032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ECA-3434-43FB-AF85-6ACC2F2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4C6-009C-4C2C-85CD-94BD2F79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CAA-BBBB-4F4A-814E-FA60E88C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01B-B403-4A88-B44E-C3B0709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C55-14D4-4B6A-AA88-C4368BF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026-1ED3-4DBF-BC63-0D12D57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667-41E3-41DE-8A26-4B87162D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749-C8B2-4389-B526-086AAF1FC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F9B6-FFFE-4177-A342-8A23F3722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onal Narra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riting about 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mall moment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your lif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Optima"/>
              </a:rPr>
              <a:t>Characteristics of Personal Narrative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introduction, or lead, which describes a problem and establishes tension for the rea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ting tells the story and the authores feelings about the story. (Show, don’t tell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is based on a true event that happened to the auth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Optima"/>
              </a:rPr>
              <a:t>More 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can be broken into several scenes, usually 3 or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etails about the character and the se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ending that tells how the problem was 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some dialogue (characters talking) and a description of things the author is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3:36:55Z</dcterms:created>
  <dc:creator>AAPS</dc:creator>
  <dc:description/>
  <dc:language>en-US</dc:language>
  <cp:lastModifiedBy>AAPS</cp:lastModifiedBy>
  <dcterms:modified xsi:type="dcterms:W3CDTF">2006-05-01T13:45:51Z</dcterms:modified>
  <cp:revision>2</cp:revision>
  <dc:subject/>
  <dc:title>The Personal Narrative</dc:title>
</cp:coreProperties>
</file>